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30A8-8DEA-49D9-AF77-F4348578F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414B-4BC0-49DF-8CDD-BB9EDBFFB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2ED3-D2CA-4673-BED1-103592239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0120-EE11-41C5-BB91-D7977B731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15FBE-F82B-4061-88C4-AA94A0B4B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D3B05-C346-448C-B3E2-DF0C66B3E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93C6B-AD1B-4288-B8CE-7E67A14E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D49FC-88A9-46F4-962C-C30D71C30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6A9EF-66A8-4BE5-9484-ED67AC362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5CFF1-DDAD-4FD0-B97D-0D0FF04FF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17FF8-F73E-4AD8-BC71-108D165F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CF06-4A50-4B08-9814-8D7668A48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E44B1-EE0E-4A26-A4DE-05764F7C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FB3FB-135C-41C0-AB3A-3E11CD74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EB370-69ED-449B-9C7E-5EAC00F94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8B8BD-8D9E-42E2-BD95-3DA50EE84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A75AA-B630-409E-A33A-8BE05D817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4207-1345-4CD4-B820-24650852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D6C6-87D7-4C93-B725-48A366E55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520D-3300-437A-9C51-EEA0C6DE5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FFDE-605C-4541-98A4-1488275A5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4421-F529-4B5F-94E5-65D20878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2228-AF8B-4194-AF18-C6D8EF43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36B5-73C6-46A3-99B8-6B931015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E702E-C92B-4029-B96B-7A8B77A905E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C71BA-7B1C-4D30-B518-23BA51BCD7B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Bullying</a:t>
            </a:r>
            <a:br>
              <a:rPr sz="4000"/>
            </a:b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Zero Tolera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8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llying is when one or more children (bully/bullies) target a single person (victim) and use behavior that has the intention to hurt that chil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s of Bully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e call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as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ushing or shov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reading rumors or gossi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gnoring someone to make them feel left ou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486400" y="2362320"/>
            <a:ext cx="2286000" cy="26668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rning Signs of Being Bulli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fusal to go to school or take b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plaints of illne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 eating lunc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ry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rop in Grad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182880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2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elping Others Who Are Being Bulli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lp the person get out of the situ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ffer to walk with the victi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lk with teachers, counselors, pare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ild each other’s self-este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cept people’s differen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t immediately if you see a probl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hecker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on Characteristics of Children who Bul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sily frustrat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fficulty following ru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iew violence in a positive wa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914400" y="2438280"/>
            <a:ext cx="236232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ullies are real people with real problems such a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eelings of not fitting 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s at ho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ing bullied by parents, siblings or oth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ear of being picked 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anting to seem tough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eelings of anger,  &amp; low self-wort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9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1760" y="2133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ake the Anti-Bullying Pledge!!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1T15:21:16Z</dcterms:created>
  <dc:creator>jwhalen</dc:creator>
  <dc:description/>
  <dc:language>en-US</dc:language>
  <cp:lastModifiedBy>North Rockland Schools</cp:lastModifiedBy>
  <dcterms:modified xsi:type="dcterms:W3CDTF">2008-09-26T13:09:12Z</dcterms:modified>
  <cp:revision>19</cp:revision>
  <dc:subject/>
  <dc:title>  Bullying </dc:title>
</cp:coreProperties>
</file>